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3C48-6361-4FB0-9F6D-9533CF8A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CC6F-19AE-4803-90B4-71400661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3CA1-A405-49DA-ACF8-659BD982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BFB-D9D7-47ED-9137-B79ACA48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E606-D5B0-4A6C-8328-88C14300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4975-445C-45B4-AC5F-422DB8CC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0FC-4D50-4585-AEFD-FB3370ED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B82-9DE5-44C6-8D4D-2AFCCD1F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6C9D-E5DF-477B-9DD0-969621AA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6AE4-3128-41FA-94D0-D5D36084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2E5C-0792-4820-913A-E1645CBE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5AAA-0726-429A-8485-33C216D5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DEAF-2CDB-4C5E-BDF5-5A1A4CB0D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IJLOACE DE MĂSURARE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ultură de specialitate pentru Şcolile de Arte şi Meserii – domeniul mecanic- clasa a I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driana Popescu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26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Mijloac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ăsurare reprezintă totalitatea mijloacelor tehnice cu care se determină cantitativ mărimea de măsurat.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 Şabloan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măsuri terminale executate din tablă cu diferite profile, în funcție de piesele care se controlează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icrometru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un aparat la care deplasările unghiulare se transfor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în deplasări liniare și care este utilizat pentru măsurarea lungimilor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Lungim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rime fizică fundamentală în Sistemul Internaţ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itatea de măsură pentru lungime este metrul, m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Sticla plan-paralel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sură terminală cu valoare unică, din sticlă, cu suprafeţe plane şi paralel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lele plan-parale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nt măsuri terminale a căror mărime este determinată de distanţa dintre două suprafeţe de măsurare plane şi paralele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tilizarea calelor se bazează pe proprietatea lor de a adera una pe alta, pe suprafeţele de măsurare, printr-o uşoară apăsare şi o mişcare tangenţială de deplasare, formându-se u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bloc de cal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care poate avea orice dimensiune. Dimensiunea blocului de cale este egală cu suma lungimilor calelor componen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9433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asificarea calibrelor nete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piesa pe care o controleaz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rb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lez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iametrul limită care verifică piese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artea trece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artea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nu trece NT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estinaţ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luc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recep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cal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Admin</cp:lastModifiedBy>
  <dcterms:modified xsi:type="dcterms:W3CDTF">2010-01-19T07:36:03Z</dcterms:modified>
  <cp:revision>21</cp:revision>
  <dc:subject/>
  <dc:title>MIJLOACE DE MĂSUR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